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44E-B542-405B-85B1-366EFEEE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0D7-2E65-4638-8310-7AF1457D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446-2BEC-4DC1-A9D7-98201ED9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742-AA40-4BBB-9605-E6D365A5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798-41FE-4011-B5E6-DBA46E82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304-74B1-4461-BBA1-FAE0C02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255-E63F-46AE-AC14-BBA653B3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D4C-CE70-4225-A38C-FA245FED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FC4-664F-410B-9E5C-02F92DD6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5B8-37F8-48E7-935E-C20FCAB3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DA4-CCF0-4464-AB25-B9143B2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912-1647-4823-9928-DBDF4B7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CA50-6D1A-4606-A719-B57C04FB4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2010-11-17_0810strokes.png"/>
          <p:cNvPicPr/>
          <p:nvPr/>
        </p:nvPicPr>
        <p:blipFill>
          <a:blip r:embed="rId1"/>
          <a:stretch/>
        </p:blipFill>
        <p:spPr>
          <a:xfrm>
            <a:off x="838080" y="614520"/>
            <a:ext cx="746784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5800" y="380880"/>
          <a:ext cx="7848720" cy="5953320"/>
        </p:xfrm>
        <a:graphic>
          <a:graphicData uri="http://schemas.openxmlformats.org/drawingml/2006/table">
            <a:tbl>
              <a:tblPr/>
              <a:tblGrid>
                <a:gridCol w="784080"/>
                <a:gridCol w="785880"/>
                <a:gridCol w="784440"/>
                <a:gridCol w="785520"/>
                <a:gridCol w="784440"/>
                <a:gridCol w="784080"/>
                <a:gridCol w="785880"/>
                <a:gridCol w="784080"/>
                <a:gridCol w="785880"/>
                <a:gridCol w="78444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弯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撇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撇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斜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撇弯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304920"/>
          <a:ext cx="7848720" cy="5922720"/>
        </p:xfrm>
        <a:graphic>
          <a:graphicData uri="http://schemas.openxmlformats.org/drawingml/2006/table">
            <a:tbl>
              <a:tblPr/>
              <a:tblGrid>
                <a:gridCol w="712800"/>
                <a:gridCol w="714240"/>
                <a:gridCol w="712800"/>
                <a:gridCol w="714600"/>
                <a:gridCol w="712800"/>
                <a:gridCol w="714240"/>
                <a:gridCol w="712800"/>
                <a:gridCol w="714240"/>
                <a:gridCol w="712800"/>
                <a:gridCol w="714600"/>
                <a:gridCol w="712800"/>
              </a:tblGrid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弯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折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斜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折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4:31:28Z</dcterms:created>
  <dc:creator>Li</dc:creator>
  <dc:description/>
  <dc:language>en-US</dc:language>
  <cp:lastModifiedBy>Li</cp:lastModifiedBy>
  <dcterms:modified xsi:type="dcterms:W3CDTF">2010-11-24T05:17:54Z</dcterms:modified>
  <cp:revision>8</cp:revision>
  <dc:subject/>
  <dc:title>Slide 1</dc:title>
</cp:coreProperties>
</file>